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dt" idx="2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ftr" idx="2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 type="sldNum" idx="2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12CF-4C8B-4385-9C1C-CF6588317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ms-MY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476C-F4A0-45B8-A793-48A76584C5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ms-MY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674A-0F34-4E7A-9F8C-2C28351BA4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ms-MY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4695-364A-4C69-AE91-807A1FD217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ms-MY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DD74-001C-4224-8F1C-B7E1B63F5F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339F-BEC0-4CF7-BCF5-ADA45C2C4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084E-F934-457F-B031-4507EEA4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E962-DB9F-47BD-9443-3B8A51343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516D-CC55-43BF-A232-42B5BD04A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F70DE-12F7-4CAB-BDC7-3BA91A22E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AB8F-F2F0-4C64-A400-FEC2E4DD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9ED8-1E0F-435C-94D2-FC236771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46F2-2E9C-42A9-AABE-9A7E180A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33E7-70FB-472F-8643-F61216AF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EE6E-27CA-4D2D-B532-EC34E34C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384E-3F4D-4349-B1D4-EDDB98E4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428D-7F31-4E22-9A56-2FFB9F3F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3BBD-5683-4F29-A060-AE6DC85F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55FC-DA79-47C7-BD5B-55CAF547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0338-B50C-4A8A-A6BF-F810B303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31F9-4932-41B5-A290-791937BBD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86CF-0E6D-41BD-B4D3-4C30B2717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AB2A4-3E03-4ABA-BD3C-A3112CD85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BD5D9-67FA-47F0-B5CA-1D8FBF20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EE648-FDC9-48BB-9516-8C4E51FA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B5C28-CB81-49B8-83EB-C0726287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D1F53-6725-4D88-9478-CB114576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A51E-F11B-4C44-B17D-20D4B9C3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658F9-5488-45F8-A456-13268D2A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30BAF-A364-43B3-8EB1-33E89874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11A71-E84E-41E6-A2E8-FB48F730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72A7C-4E95-4BCA-8AD5-F6698AF6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1134B-A819-4094-A97E-4DA15973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63CFC-7430-477F-AFE1-588EAB491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52156-A7C2-4FD5-80C3-FB2502AA7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775DB-6593-4592-BCFE-DD505D172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7871D-489C-454D-A657-A8050141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E3BBE-5E0A-4BBD-ADD9-E65854AA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30FB-644A-424A-893F-2A9CEBE80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2DC9B-17B3-46E1-A9DB-8A6E7F0B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EF006-B37F-44E0-BDF2-1E7C08AC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6B944-30AA-4541-8439-F61FE057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03902-4646-4468-A101-9F9284CB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AA652-D396-446C-A160-453E755C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3F720-9A30-47CD-BD32-E170C62F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3D79E-0218-485A-9066-00C1AF5D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3FFDE-7C01-41E3-975E-EA5713127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0E756-A521-4E69-B9F6-9B6E7E3EC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3EB5A-0AEB-4836-9256-D75C64F37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969F-3CF9-4A50-A62B-36B1F1F8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AE460-EF1C-4285-AF1D-2F07D60B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6B03B-A405-4A63-B407-D5D190BB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F97C0-9AC9-4BF0-9FFB-BE0A7F5A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DF7B9-0978-4A05-9214-3C51849E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E9D70-BA35-499D-A89E-F24A4472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76337-0204-40FC-9D0E-E4BD579B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FD37D-1B9F-4B0F-B195-C4FDDEE3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231BF-D59F-4EB1-B226-57FDEF34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1DD6F-311D-49B6-9DFB-AD220FB8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B1F28-BDEC-4173-AA16-287E7196F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BDFE-CB28-4745-A01A-46212410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F269C-8B45-40D6-A2A6-6C388FB75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30442-E212-48A5-8F0B-DD544A791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0B431-A347-4671-A0AF-F3DD521C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989CF-E2A0-4E49-8FA3-31A96F5F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90344-577C-48FF-AE11-D5EBA9A2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6644E-D091-4084-9243-80966E01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BEC1B-6C7E-4B27-83A3-0F508D7D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1F1E8-9ABF-4F58-A1B7-C2B30F84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A9274-BB93-4763-85E1-B233FE04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5BB3C-16AE-40D9-AA48-FA45CAC2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E487-4B3E-476F-8046-7D5766C1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0491E-D2A1-4C22-9B5F-7DF948F6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3ABEC-1ED6-4794-836E-E975F5875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B189B-D193-4B66-A5D6-75358FE5A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F4C44-658B-43EE-8F9A-6D4477295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566A2-313C-47DC-9E9A-2EBDEFB0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46713-C892-43CB-828B-DE6FB5F0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767C1-4CEF-4CA2-AA5B-3543EE24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28126-34C0-415B-9CF1-53B62B2E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02622-CAB9-4045-896A-20837C2E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E6C5B-D101-4C18-BBD7-CC18C15C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72D8-7DB1-440F-870B-2E075C6F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6842C-2E4A-4A3D-AB34-8A8C5244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17FA0-2503-4C4C-B436-2ED5FD45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AE512-7A15-4431-878A-AE6DCA81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C9525-07B6-48FC-BC46-6E905AE2F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8C636-E4DC-4C2E-835A-D8A4A9CF8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C3D7-087C-4075-BEC9-8045C142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56E3-BA02-4887-892F-AB95722AAFA2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13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58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Oval 15"/>
          <p:cNvGrpSpPr/>
          <p:nvPr/>
        </p:nvGrpSpPr>
        <p:grpSpPr>
          <a:xfrm>
            <a:off x="914400" y="1401840"/>
            <a:ext cx="225360" cy="231840"/>
            <a:chOff x="914400" y="1401840"/>
            <a:chExt cx="225360" cy="231840"/>
          </a:xfrm>
        </p:grpSpPr>
        <p:pic>
          <p:nvPicPr>
            <p:cNvPr id="60" name="Oval 15" descr=""/>
            <p:cNvPicPr/>
            <p:nvPr/>
          </p:nvPicPr>
          <p:blipFill>
            <a:blip r:embed="rId5"/>
            <a:stretch/>
          </p:blipFill>
          <p:spPr>
            <a:xfrm>
              <a:off x="914400" y="1401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Oval 16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3DEE-5CFA-4C3F-B397-1958628B2CC5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5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Oval 17"/>
          <p:cNvGrpSpPr/>
          <p:nvPr/>
        </p:nvGrpSpPr>
        <p:grpSpPr>
          <a:xfrm>
            <a:off x="2163600" y="2803680"/>
            <a:ext cx="225720" cy="231480"/>
            <a:chOff x="2163600" y="2803680"/>
            <a:chExt cx="225720" cy="231480"/>
          </a:xfrm>
        </p:grpSpPr>
        <p:pic>
          <p:nvPicPr>
            <p:cNvPr id="107" name="Oval 17" descr=""/>
            <p:cNvPicPr/>
            <p:nvPr/>
          </p:nvPicPr>
          <p:blipFill>
            <a:blip r:embed="rId3"/>
            <a:stretch/>
          </p:blipFill>
          <p:spPr>
            <a:xfrm>
              <a:off x="2163600" y="2803680"/>
              <a:ext cx="22572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Oval 1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EA92-0355-496E-B75D-59479C70B9C4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6737-FD69-45B6-8AD2-61449EDA11AF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5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6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58E9-6924-415D-BBA9-5AC48515FAD6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67F6-9D52-46FF-9BAC-5CF9270C26F0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Rectangle 15"/>
          <p:cNvGrpSpPr/>
          <p:nvPr/>
        </p:nvGrpSpPr>
        <p:grpSpPr>
          <a:xfrm>
            <a:off x="646200" y="969840"/>
            <a:ext cx="4797360" cy="4797720"/>
            <a:chOff x="646200" y="969840"/>
            <a:chExt cx="4797360" cy="4797720"/>
          </a:xfrm>
        </p:grpSpPr>
        <p:pic>
          <p:nvPicPr>
            <p:cNvPr id="277" name="Rectangle 15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797360" cy="479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Process 16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rocess 17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9E36-6277-45C4-97E9-12819317C873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Rectangle 5" descr=""/>
          <p:cNvPicPr/>
          <p:nvPr/>
        </p:nvPicPr>
        <p:blipFill>
          <a:blip r:embed="rId2"/>
          <a:stretch/>
        </p:blipFill>
        <p:spPr>
          <a:xfrm>
            <a:off x="2127240" y="596880"/>
            <a:ext cx="4809960" cy="817560"/>
          </a:xfrm>
          <a:prstGeom prst="rect">
            <a:avLst/>
          </a:prstGeom>
          <a:ln w="0">
            <a:noFill/>
          </a:ln>
        </p:spPr>
      </p:pic>
      <p:pic>
        <p:nvPicPr>
          <p:cNvPr id="330" name="Rectangle 6" descr=""/>
          <p:cNvPicPr/>
          <p:nvPr/>
        </p:nvPicPr>
        <p:blipFill>
          <a:blip r:embed="rId3"/>
          <a:stretch/>
        </p:blipFill>
        <p:spPr>
          <a:xfrm>
            <a:off x="701640" y="1335240"/>
            <a:ext cx="7753320" cy="1347480"/>
          </a:xfrm>
          <a:prstGeom prst="rect">
            <a:avLst/>
          </a:prstGeom>
          <a:ln w="0">
            <a:noFill/>
          </a:ln>
        </p:spPr>
      </p:pic>
      <p:sp>
        <p:nvSpPr>
          <p:cNvPr id="331" name="Rounded Rectangle 8"/>
          <p:cNvSpPr/>
          <p:nvPr/>
        </p:nvSpPr>
        <p:spPr>
          <a:xfrm>
            <a:off x="3581280" y="4495680"/>
            <a:ext cx="2057400" cy="1828800"/>
          </a:xfrm>
          <a:prstGeom prst="roundRect">
            <a:avLst>
              <a:gd name="adj" fmla="val 16667"/>
            </a:avLst>
          </a:prstGeom>
          <a:solidFill>
            <a:srgbClr val="f2a4a7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Rectangle 9" descr=""/>
          <p:cNvPicPr/>
          <p:nvPr/>
        </p:nvPicPr>
        <p:blipFill>
          <a:blip r:embed="rId4"/>
          <a:stretch/>
        </p:blipFill>
        <p:spPr>
          <a:xfrm>
            <a:off x="835200" y="3181320"/>
            <a:ext cx="7553160" cy="10922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2" descr="150px-Intel-logo.svg.png"/>
          <p:cNvPicPr/>
          <p:nvPr/>
        </p:nvPicPr>
        <p:blipFill>
          <a:blip r:embed="rId5"/>
          <a:stretch/>
        </p:blipFill>
        <p:spPr>
          <a:xfrm>
            <a:off x="5029200" y="4724280"/>
            <a:ext cx="1428840" cy="9432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3" descr="250px-AMD_Logo.svg.png"/>
          <p:cNvPicPr/>
          <p:nvPr/>
        </p:nvPicPr>
        <p:blipFill>
          <a:blip r:embed="rId6"/>
          <a:stretch/>
        </p:blipFill>
        <p:spPr>
          <a:xfrm>
            <a:off x="2133720" y="4952880"/>
            <a:ext cx="2381040" cy="4572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4" descr="200px-IBM_logo.svg.png"/>
          <p:cNvPicPr/>
          <p:nvPr/>
        </p:nvPicPr>
        <p:blipFill>
          <a:blip r:embed="rId7"/>
          <a:stretch/>
        </p:blipFill>
        <p:spPr>
          <a:xfrm>
            <a:off x="2666880" y="5715000"/>
            <a:ext cx="1600200" cy="6397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5" descr="200px-Freescale_Semiconductor_logo.svg.png"/>
          <p:cNvPicPr/>
          <p:nvPr/>
        </p:nvPicPr>
        <p:blipFill>
          <a:blip r:embed="rId8"/>
          <a:stretch/>
        </p:blipFill>
        <p:spPr>
          <a:xfrm>
            <a:off x="3581280" y="4114800"/>
            <a:ext cx="1905120" cy="5810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6" descr="235px-Microchip_logo.svg.png"/>
          <p:cNvPicPr/>
          <p:nvPr/>
        </p:nvPicPr>
        <p:blipFill>
          <a:blip r:embed="rId9"/>
          <a:stretch/>
        </p:blipFill>
        <p:spPr>
          <a:xfrm>
            <a:off x="4876920" y="5715000"/>
            <a:ext cx="13302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Rectangle 3" descr=""/>
          <p:cNvPicPr/>
          <p:nvPr/>
        </p:nvPicPr>
        <p:blipFill>
          <a:blip r:embed="rId2"/>
          <a:stretch/>
        </p:blipFill>
        <p:spPr>
          <a:xfrm>
            <a:off x="1335240" y="298440"/>
            <a:ext cx="6278400" cy="14810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990720" y="1294920"/>
            <a:ext cx="7943760" cy="43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 objective of this course is to make the students understand with a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wide range of topics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 the area of computer architecture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focusing on performance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nd the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hardware/software interfac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 emphasis is on studying and analyzing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fundamental issue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 architecture design and their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impact on computer performanc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Rectangle 3" descr=""/>
          <p:cNvPicPr/>
          <p:nvPr/>
        </p:nvPicPr>
        <p:blipFill>
          <a:blip r:embed="rId2"/>
          <a:stretch/>
        </p:blipFill>
        <p:spPr>
          <a:xfrm>
            <a:off x="1547640" y="298440"/>
            <a:ext cx="5853240" cy="14810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990720" y="1294920"/>
            <a:ext cx="7943760" cy="43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 course provide the organization and architecture of modern-day computers, emphasizing both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fundamental principle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nd the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critical role of performance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 driving computer design. Emphasis will be placed on the function and operation of the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Central Processing Uni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. It will also cover the organization of other components of a computer system such as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busses, internal memory, external memory and I/O device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and how they all work together to form a functioning computer system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Rectangle 5" descr=""/>
          <p:cNvPicPr/>
          <p:nvPr/>
        </p:nvPicPr>
        <p:blipFill>
          <a:blip r:embed="rId2"/>
          <a:stretch/>
        </p:blipFill>
        <p:spPr>
          <a:xfrm>
            <a:off x="2359080" y="298440"/>
            <a:ext cx="4230720" cy="1481040"/>
          </a:xfrm>
          <a:prstGeom prst="rect">
            <a:avLst/>
          </a:prstGeom>
          <a:ln w="0">
            <a:noFill/>
          </a:ln>
        </p:spPr>
      </p:pic>
      <p:pic>
        <p:nvPicPr>
          <p:cNvPr id="343" name="Rectangle 11" descr=""/>
          <p:cNvPicPr/>
          <p:nvPr/>
        </p:nvPicPr>
        <p:blipFill>
          <a:blip r:embed="rId3"/>
          <a:stretch/>
        </p:blipFill>
        <p:spPr>
          <a:xfrm>
            <a:off x="1822320" y="4340160"/>
            <a:ext cx="2987640" cy="76212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13"/>
          <p:cNvSpPr/>
          <p:nvPr/>
        </p:nvSpPr>
        <p:spPr>
          <a:xfrm>
            <a:off x="1981080" y="5105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Minimum 8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1981080" y="1447920"/>
            <a:ext cx="6705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Saturday: 2 – 5 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Dewan Seminar 06, PPS New Buil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Conta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Room 5 JKEES, FKAB (near JKEES Off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Email: nash@eng.ukm.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Tel: 03-89216324 (0ff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Rectangle 6" descr=""/>
          <p:cNvPicPr/>
          <p:nvPr/>
        </p:nvPicPr>
        <p:blipFill>
          <a:blip r:embed="rId2"/>
          <a:stretch/>
        </p:blipFill>
        <p:spPr>
          <a:xfrm>
            <a:off x="450720" y="378000"/>
            <a:ext cx="8474040" cy="148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7" name=""/>
          <p:cNvGraphicFramePr/>
          <p:nvPr/>
        </p:nvGraphicFramePr>
        <p:xfrm>
          <a:off x="2413080" y="1371600"/>
          <a:ext cx="4902120" cy="2219400"/>
        </p:xfrm>
        <a:graphic>
          <a:graphicData uri="http://schemas.openxmlformats.org/drawingml/2006/table">
            <a:tbl>
              <a:tblPr/>
              <a:tblGrid>
                <a:gridCol w="2997000"/>
                <a:gridCol w="19051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igh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2812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Quizz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% - 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2812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ssign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% - 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2812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id-sem Ex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5% - 3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2812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inal Ex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0% - 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sp>
        <p:nvSpPr>
          <p:cNvPr id="348" name="TextBox 3"/>
          <p:cNvSpPr/>
          <p:nvPr/>
        </p:nvSpPr>
        <p:spPr>
          <a:xfrm>
            <a:off x="170640" y="4495680"/>
            <a:ext cx="379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e shall assign you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4054320" y="4572000"/>
          <a:ext cx="3108600" cy="1854360"/>
        </p:xfrm>
        <a:graphic>
          <a:graphicData uri="http://schemas.openxmlformats.org/drawingml/2006/table">
            <a:tbl>
              <a:tblPr/>
              <a:tblGrid>
                <a:gridCol w="31086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Quizz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ssign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id-Semester 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inal Ex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914400" y="4848120"/>
            <a:ext cx="8001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William Stallings, Computer Organization and Architecture, 6th Ed., Prentice Hall,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Hayes J. P., Computer Architecture and Organization, 3rd Ed., McGraw-Hill, New York. 199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Tanenbaum, A.S., Structured Computer Organization, 4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Edition, Prentice Hall, 199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Rectangle 8" descr=""/>
          <p:cNvPicPr/>
          <p:nvPr/>
        </p:nvPicPr>
        <p:blipFill>
          <a:blip r:embed="rId2"/>
          <a:stretch/>
        </p:blipFill>
        <p:spPr>
          <a:xfrm>
            <a:off x="2584440" y="225360"/>
            <a:ext cx="3925800" cy="1481040"/>
          </a:xfrm>
          <a:prstGeom prst="rect">
            <a:avLst/>
          </a:prstGeom>
          <a:ln w="0">
            <a:noFill/>
          </a:ln>
        </p:spPr>
      </p:pic>
      <p:pic>
        <p:nvPicPr>
          <p:cNvPr id="352" name="Rectangle 9" descr=""/>
          <p:cNvPicPr/>
          <p:nvPr/>
        </p:nvPicPr>
        <p:blipFill>
          <a:blip r:embed="rId3"/>
          <a:stretch/>
        </p:blipFill>
        <p:spPr>
          <a:xfrm>
            <a:off x="298440" y="987480"/>
            <a:ext cx="1365120" cy="762120"/>
          </a:xfrm>
          <a:prstGeom prst="rect">
            <a:avLst/>
          </a:prstGeom>
          <a:ln w="0">
            <a:noFill/>
          </a:ln>
        </p:spPr>
      </p:pic>
      <p:pic>
        <p:nvPicPr>
          <p:cNvPr id="353" name="Rectangle 10" descr=""/>
          <p:cNvPicPr/>
          <p:nvPr/>
        </p:nvPicPr>
        <p:blipFill>
          <a:blip r:embed="rId4"/>
          <a:stretch/>
        </p:blipFill>
        <p:spPr>
          <a:xfrm>
            <a:off x="1127160" y="4108320"/>
            <a:ext cx="1847880" cy="76212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6"/>
          <p:cNvSpPr/>
          <p:nvPr/>
        </p:nvSpPr>
        <p:spPr>
          <a:xfrm>
            <a:off x="1676520" y="1208160"/>
            <a:ext cx="7315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Author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Hennessy and Patt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Title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Computer Architecture: A Quantitative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Edition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2007, 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ＭＳ ゴシック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E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Publisher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Elsevier Science and Technology 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Rectangle 3" descr=""/>
          <p:cNvPicPr/>
          <p:nvPr/>
        </p:nvPicPr>
        <p:blipFill>
          <a:blip r:embed="rId2"/>
          <a:stretch/>
        </p:blipFill>
        <p:spPr>
          <a:xfrm>
            <a:off x="2127240" y="378000"/>
            <a:ext cx="4840200" cy="148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6" name=""/>
          <p:cNvGraphicFramePr/>
          <p:nvPr/>
        </p:nvGraphicFramePr>
        <p:xfrm>
          <a:off x="1006560" y="1371600"/>
          <a:ext cx="7680240" cy="5315040"/>
        </p:xfrm>
        <a:graphic>
          <a:graphicData uri="http://schemas.openxmlformats.org/drawingml/2006/table">
            <a:tbl>
              <a:tblPr/>
              <a:tblGrid>
                <a:gridCol w="298440"/>
                <a:gridCol w="896760"/>
                <a:gridCol w="336600"/>
                <a:gridCol w="1233720"/>
                <a:gridCol w="3512880"/>
                <a:gridCol w="1028880"/>
                <a:gridCol w="372960"/>
              </a:tblGrid>
              <a:tr h="23796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s-MY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  <a:tc gridSpan="2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s-MY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a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s-MY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op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s-MY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Lectur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 Oct 201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trodu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r. Nasharuddin Zai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5 Oct 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trodu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3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2 Oct 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puter Struc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9 Oct 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puter Struc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 Nov 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struction Set Architecture (IS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9 Nov 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mory Address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6 Nov 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IPS Architec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 Dec 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id Semester Ex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 Dec 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puter Mem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7 Dec 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puter Mem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4 Dec 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irtual Mem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1 Dec 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ipeli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 Jan 2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arallel Processo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4 Jan 2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/O De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68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Version: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em break: 21 - 27 Nov 2011 &amp; 16 - 26 Dec 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36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xam starts : 27 Jan 2012 – 19 Feb 2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6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8T02:05:27Z</dcterms:created>
  <dc:creator>Pusat Komputer</dc:creator>
  <dc:description/>
  <dc:language>en-US</dc:language>
  <cp:lastModifiedBy>Zainal Nasharuddin</cp:lastModifiedBy>
  <dcterms:modified xsi:type="dcterms:W3CDTF">2011-10-08T04:56:07Z</dcterms:modified>
  <cp:revision>91</cp:revision>
  <dc:subject/>
  <dc:title>Computer Organization  and Architecture</dc:title>
</cp:coreProperties>
</file>